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9.wmf" ContentType="image/x-wmf"/>
  <Override PartName="/ppt/media/image10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0292-5DDC-45D5-A545-AD7FB3DE4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CEF1-1D7C-4D11-9D28-72E010C00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7766-035B-4B03-8CAB-D59001C9D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AD67-84F6-4A0C-8840-246837840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CBC8-24E1-4D45-9D93-398D2A30C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2D9B-974E-4CF9-A1F0-14B589F68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56C0-C96F-49FE-8C0B-090440E47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0193-A6BB-48B2-8F77-60D0647C4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38EB-0E0A-4986-9187-87BCC8956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314E-1C0A-4F15-B190-02ED2B4D3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6CAE-E73E-43BB-9B96-CF9300EE5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2757-EB7D-42BA-9A81-75C21DF76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C39AA-01B4-48ED-A06F-18F7D40A48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sson 8.7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ponential Fun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2562120"/>
            <a:ext cx="8458200" cy="20862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09480" y="190512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jective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Evaluating Exponential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305560" cy="14572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838080" y="1752480"/>
            <a:ext cx="2590920" cy="13795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4952880" y="1752480"/>
            <a:ext cx="335304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991720" cy="16542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8458200" cy="18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685800"/>
            <a:ext cx="8915400" cy="40813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04920" y="510552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 questions from objective 1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59436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jective 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Graphing Exponential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066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3657600" cy="28450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5791320" y="2057400"/>
            <a:ext cx="233820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45464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57200" y="5943600"/>
            <a:ext cx="701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 questions from objective 2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46274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04920" y="4724280"/>
            <a:ext cx="73152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osu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 Explain why y = x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not an exponential 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**Remember to date and highlight this entry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1T15:28:38Z</dcterms:created>
  <dc:creator>Susannah Graham</dc:creator>
  <dc:description/>
  <dc:language>en-US</dc:language>
  <cp:lastModifiedBy>Susannah Graham</cp:lastModifiedBy>
  <dcterms:modified xsi:type="dcterms:W3CDTF">2009-08-05T01:56:31Z</dcterms:modified>
  <cp:revision>2</cp:revision>
  <dc:subject/>
  <dc:title>Lesson 8.7 Exponential Functions</dc:title>
</cp:coreProperties>
</file>